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ED4-7E64-41C2-8D66-2C4EBC02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050-5942-4277-B486-ACC15746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359-13E6-4A3A-8A01-D4115A43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CFB-5439-4795-896B-24AFD01D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05D5-582C-4356-B0FE-CAD65E08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C7B6-20B0-4F07-9CFD-C69334A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2DF6-E1BE-4542-AA35-DB072466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5F4D-7090-4E8E-B7C5-B9D130CF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6096-4049-4F82-B744-63F43522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A014-FFB0-476E-9D61-A5EB8AC0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5FA-D4FF-4C60-BDAA-5DE36854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6D6-030F-4B99-8FD9-82844A5B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1508-7BE6-4846-8DB5-DE110B21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F357-BC94-4AEF-8156-DF0E0301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3F3-6495-4242-BC2E-4A78A80A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B896-2E27-47FB-B5B0-67AA5239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5B71-810D-46CF-9AE9-BCED73AD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27A-8D37-4ED6-B2C4-A98D0F89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45B-2902-4517-A43A-E603E278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E5C-7CC4-4B7C-A90D-CAEFF00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1A2-42EE-4F06-B690-665D4816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B00-8077-4387-BAA8-5651584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AC5-B448-441D-89C8-D5B320CF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11D-AF23-4ED2-B150-C686561B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46B4-8B77-4FF0-93F0-FF404B317C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3DF6-0CCE-42DB-B9F7-E51F495D95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.kir.com/archives/oil%2520and%2520gas%2520well%2520at%2520sunset3.jpg&amp;imgrefurl=http://blog.kir.com/archives/cat_economics_energy_prices.asp&amp;usg=__L8_-RtQUGF5OkggUFgVkSJzmGs0=&amp;h=450&amp;w=300&amp;sz=14&amp;hl=en&amp;start=5&amp;tbnid=fjnmFhFZmvgSjM:&amp;tbnh=127&amp;tbnw=85&amp;prev=/images%3Fq%3Doil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66"/>
                </a:solidFill>
                <a:latin typeface="Matura MT Script Capitals"/>
              </a:rPr>
              <a:t>Oman</a:t>
            </a:r>
            <a:br>
              <a:rPr sz="11800"/>
            </a:br>
            <a:r>
              <a:rPr b="0" lang="ar-SA" sz="8000" spc="-1" strike="noStrike">
                <a:solidFill>
                  <a:srgbClr val="000066"/>
                </a:solidFill>
                <a:latin typeface="Tahoma"/>
                <a:cs typeface="Arial"/>
              </a:rPr>
              <a:t>عمان</a:t>
            </a:r>
            <a:r>
              <a:rPr b="0" lang="en-US" sz="8000" spc="-1" strike="noStrike">
                <a:solidFill>
                  <a:srgbClr val="000066"/>
                </a:solidFill>
                <a:latin typeface="Tahoma"/>
                <a:ea typeface="Arial"/>
              </a:rPr>
              <a:t>  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24080" y="6172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Matura MT Script Capitals"/>
              </a:rPr>
              <a:t>Josh Crumbling and Lauren Sherid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Works Cit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bbc.co.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nationalgeographic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cia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Th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arding Saudi Ara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desert pl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gged mountains in the north and s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lf of 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an Gu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3743280" cy="235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2841480" cy="1939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4419720"/>
            <a:ext cx="259092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The Land cont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role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e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yps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71600"/>
            <a:ext cx="1527120" cy="2281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2209680" cy="20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276720" y="4038480"/>
            <a:ext cx="1941480" cy="252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638680" y="42670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679840" cy="2679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Climate And Vege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y desert clim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bian leop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y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ze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rt f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dc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2 species of whale and dolph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rt pla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19920" y="4038480"/>
            <a:ext cx="3124080" cy="2265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867280" y="1143000"/>
            <a:ext cx="292428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Gover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is the Sul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ltan is Qaboos Bin Said Al Sa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ck of democratic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important decisions are made by Sul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-2.6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expec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4-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7-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270504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733920" cy="348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History and Current Ev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est independent state in the Arab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its roots in Islamic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of the first groups of people to embrace Isl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never been inva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an is growing rapid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Econo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dle income econ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ily dependent on oil indus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mic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stoc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hin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809880" cy="3191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12193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943000" cy="3676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Cul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2190960" cy="2874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010280" y="350532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lamic 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6.8- 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3.5- fe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go to school until they are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bic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 wear gowns usually wh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times they use a c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wear a dress over pants and a head dress usually very colo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90512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tura MT Script Capitals"/>
              </a:rPr>
              <a:t>Places to Visi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ital city of Mus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s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4496040" cy="345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238560" cy="211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4143240" cy="310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7:04Z</dcterms:created>
  <dc:creator>joshuabcrumbling</dc:creator>
  <dc:description/>
  <dc:language>en-US</dc:language>
  <cp:lastModifiedBy>joshuabcrumbling</cp:lastModifiedBy>
  <dcterms:modified xsi:type="dcterms:W3CDTF">2009-02-18T17:45:36Z</dcterms:modified>
  <cp:revision>15</cp:revision>
  <dc:subject/>
  <dc:title>Oman عمان‎ </dc:title>
</cp:coreProperties>
</file>